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C775-027D-47C5-8DA5-654186F8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20B7-81E5-4046-A5C1-7CC7ECB64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36727-89A2-48B5-88EE-1FBF50CDA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3DA2-322A-4B9D-9049-D7CE79AF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A36C-6B01-4F58-BB05-08317C22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2EE2-14E2-4E43-8BEB-0487FC859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5082-64E4-4B8C-BFFE-0ECE187B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015E-0871-41A3-AD79-C1F3C680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DA3B-F2F3-4B9B-AC6D-287892381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CF33-4127-43E3-8DA5-87A3671B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D213-EA31-4FDC-A481-3EFA1D47C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3F6C-E637-447F-B879-193A38D6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9A12-8F14-4502-89C7-22B079609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2.xml"/><Relationship Id="rId3" Type="http://schemas.openxmlformats.org/officeDocument/2006/relationships/slide" Target="slide22.xml"/><Relationship Id="rId4" Type="http://schemas.openxmlformats.org/officeDocument/2006/relationships/slide" Target="slide32.xml"/><Relationship Id="rId5" Type="http://schemas.openxmlformats.org/officeDocument/2006/relationships/slide" Target="slide42.xml"/><Relationship Id="rId6" Type="http://schemas.openxmlformats.org/officeDocument/2006/relationships/slide" Target="slide4.xml"/><Relationship Id="rId7" Type="http://schemas.openxmlformats.org/officeDocument/2006/relationships/slide" Target="slide14.xml"/><Relationship Id="rId8" Type="http://schemas.openxmlformats.org/officeDocument/2006/relationships/slide" Target="slide24.xml"/><Relationship Id="rId9" Type="http://schemas.openxmlformats.org/officeDocument/2006/relationships/slide" Target="slide34.xml"/><Relationship Id="rId10" Type="http://schemas.openxmlformats.org/officeDocument/2006/relationships/slide" Target="slide44.xml"/><Relationship Id="rId11" Type="http://schemas.openxmlformats.org/officeDocument/2006/relationships/slide" Target="slide6.xml"/><Relationship Id="rId12" Type="http://schemas.openxmlformats.org/officeDocument/2006/relationships/slide" Target="slide16.xml"/><Relationship Id="rId13" Type="http://schemas.openxmlformats.org/officeDocument/2006/relationships/slide" Target="slide26.xml"/><Relationship Id="rId14" Type="http://schemas.openxmlformats.org/officeDocument/2006/relationships/slide" Target="slide36.xml"/><Relationship Id="rId15" Type="http://schemas.openxmlformats.org/officeDocument/2006/relationships/slide" Target="slide46.xml"/><Relationship Id="rId16" Type="http://schemas.openxmlformats.org/officeDocument/2006/relationships/slide" Target="slide8.xml"/><Relationship Id="rId17" Type="http://schemas.openxmlformats.org/officeDocument/2006/relationships/slide" Target="slide18.xml"/><Relationship Id="rId18" Type="http://schemas.openxmlformats.org/officeDocument/2006/relationships/slide" Target="slide28.xml"/><Relationship Id="rId19" Type="http://schemas.openxmlformats.org/officeDocument/2006/relationships/slide" Target="slide38.xml"/><Relationship Id="rId20" Type="http://schemas.openxmlformats.org/officeDocument/2006/relationships/slide" Target="slide48.xml"/><Relationship Id="rId21" Type="http://schemas.openxmlformats.org/officeDocument/2006/relationships/slide" Target="slide10.xml"/><Relationship Id="rId22" Type="http://schemas.openxmlformats.org/officeDocument/2006/relationships/slide" Target="slide20.xml"/><Relationship Id="rId23" Type="http://schemas.openxmlformats.org/officeDocument/2006/relationships/slide" Target="slide30.xml"/><Relationship Id="rId24" Type="http://schemas.openxmlformats.org/officeDocument/2006/relationships/slide" Target="slide40.xml"/><Relationship Id="rId25" Type="http://schemas.openxmlformats.org/officeDocument/2006/relationships/slide" Target="slide50.xml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096240" cy="411156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3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4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2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3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4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8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hlinkClick r:id="rId25" action="ppaction://hlinksldjump"/>
                        </a:rPr>
                        <a:t>5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"/>
          <p:cNvSpPr/>
          <p:nvPr/>
        </p:nvSpPr>
        <p:spPr>
          <a:xfrm>
            <a:off x="1295280" y="9144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b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914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ca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9880" y="9144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l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81480" y="914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i/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553080" y="914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’ac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1752480"/>
            <a:ext cx="830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njuguez au passé composé: les gens, envoyer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600200" y="9144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gens ont envoyé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04920" y="1752480"/>
            <a:ext cx="830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Air mai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609480"/>
            <a:ext cx="830592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r av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04920" y="17524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a personne qui distribue le courri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399960" y="936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936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2590920" y="1676520"/>
            <a:ext cx="44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Le facteu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04920" y="17524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n met un timbre sur cet obje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0" y="144792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Une envelopp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04920" y="17524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n paie un paquet selon _______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36232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Le poid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1752480"/>
            <a:ext cx="83055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njuguez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ls/employ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17524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On assure un paquet pour le valeur de son ______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1447920"/>
            <a:ext cx="601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ontenu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1752480"/>
            <a:ext cx="8305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De quelles couleurs est le panneau (sign) pour la poste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175248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Il est jaune et bleu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685800"/>
            <a:ext cx="830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ur une enveloppe, l’expéditeur écrit _______ avant la vil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399960" y="936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936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1752480"/>
            <a:ext cx="8305560" cy="37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399960" y="936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936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209680" y="1143000"/>
            <a:ext cx="4724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114300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le code pos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609480"/>
            <a:ext cx="830592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La France est divisée en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combien de départements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90920" y="1523880"/>
            <a:ext cx="396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95 départemen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04920" y="17524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e code postale de Paris commence par ___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1523880"/>
            <a:ext cx="449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7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752480"/>
            <a:ext cx="830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Ils emploien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04920" y="17524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Le Compte-Chèque Postal est __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1295280"/>
            <a:ext cx="3504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s chèques postau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1752480"/>
            <a:ext cx="830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Qui + _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1219320"/>
            <a:ext cx="6248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Times New Roman"/>
              </a:rPr>
              <a:t>verb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04920" y="1752480"/>
            <a:ext cx="830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Que + ________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90920" y="1523880"/>
            <a:ext cx="52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ujet et verb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1752480"/>
            <a:ext cx="830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Voici la fille ____ j’ador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129528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qu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04920" y="1752480"/>
            <a:ext cx="8305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’est Madame ___ est mon professeur favori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9520" y="1752480"/>
            <a:ext cx="4800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qu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04920" y="1752480"/>
            <a:ext cx="83055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njuguez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ous/pay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1752480"/>
            <a:ext cx="830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Je donne à manger à mon chien, Lucky, _____ nous aimons beaucoup et ____ a toujours faim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1447920"/>
            <a:ext cx="6019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Que,   qu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12952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Voici mes photos. Je les ai pris___ hier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457200"/>
            <a:ext cx="7848360" cy="38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prises:  -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981080"/>
            <a:ext cx="7924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J’ai mis___ le code postal sur l’enveloppe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48120" y="1523880"/>
            <a:ext cx="4038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(rien)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1371600"/>
            <a:ext cx="79246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J’ai reçu les paquets.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Je les ai reçu___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24080" y="2133720"/>
            <a:ext cx="426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reçus (-s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8088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Je crois que la fille que tu as vu___ est gentille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9960" y="936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936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99960" y="9360"/>
          <a:ext cx="114480" cy="17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936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2362320" y="160020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vue (-e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1752480"/>
            <a:ext cx="830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Nous payon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1981080"/>
            <a:ext cx="79246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e sont les photos que Michel a pris___.  Il les a mis dans l’enveloppe.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3962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-es, -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752480"/>
            <a:ext cx="83055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njuguez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envoy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00200" y="762120"/>
            <a:ext cx="57150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J’envoi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us envoy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u envoie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us envoye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 envoi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s envoi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1752480"/>
            <a:ext cx="83055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omment dit-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to insure?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99960" y="936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936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90720" y="60958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99960" y="9360"/>
          <a:ext cx="114480" cy="177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9960" y="9360"/>
                    <a:ext cx="114480" cy="17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838080" y="1981080"/>
            <a:ext cx="7162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assur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5:26:29Z</dcterms:created>
  <dc:creator>Technology</dc:creator>
  <dc:description/>
  <dc:language>en-US</dc:language>
  <cp:lastModifiedBy>nbarthenheier</cp:lastModifiedBy>
  <dcterms:modified xsi:type="dcterms:W3CDTF">2005-10-05T14:59:07Z</dcterms:modified>
  <cp:revision>34</cp:revision>
  <dc:subject/>
  <dc:title>PowerPoint Presentation</dc:title>
</cp:coreProperties>
</file>